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5F65-B781-4B9A-B019-9FED92CF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9F7F-B781-4F1A-9240-A01FE93A9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26A-5EB5-4BBB-8D55-D65CFCA8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227-D465-4A76-97C6-DB71F727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881-5162-47F0-8130-8D98BED3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E04-BE80-498D-811B-B2DC7141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63D-9194-4EDD-8CD7-1624EAFA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B8D-1D7D-4028-A000-CFF7F9B9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7ED-6711-492B-8E1C-BECDF65D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101-78DD-4066-B49E-A608210E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B57-2180-4E8B-B446-5B4EABBF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AA2-AF19-4E1E-84E0-A2FADF3A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577-A453-41FC-AF3F-A06B1A37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A92-0867-45D4-85DC-DE4EBDF7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9565-05A9-4FD7-AA90-604993571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lorence 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Florence, yo vivo en la South side  de  Brooklyn. Yo soy catorce ano y tiengo uno hermano y duce hermanas. Soy como feliz, and loca. Adios amig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ien pero que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Muy bien y tú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Buenas dia amigas como est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Screen Shot 2012-12-05 at 1.24.19 PM.png"/>
          <p:cNvPicPr/>
          <p:nvPr/>
        </p:nvPicPr>
        <p:blipFill>
          <a:blip r:embed="rId12"/>
          <a:stretch/>
        </p:blipFill>
        <p:spPr>
          <a:xfrm>
            <a:off x="76320" y="1219320"/>
            <a:ext cx="1490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7:04Z</dcterms:modified>
  <cp:revision>107</cp:revision>
  <dc:subject/>
  <dc:title>Profile</dc:title>
</cp:coreProperties>
</file>